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D579-C6E2-4EB0-AF18-977654A99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C86-D42D-4FC9-B4C9-416B8903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2A9-F17C-4BA8-B065-DAA795A9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4D1-F67B-4787-86D0-1F658F0D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7CDE-25E0-449F-BF2F-10E5AA03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5E30-173D-485A-96FC-9F1E0386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C435-F199-4C45-839A-2C166A07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96CB-0A96-4E64-AF00-4271C41A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9E07-B3D2-4194-8AF0-0BAC3064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D566-1F23-4B38-B655-D993BFAC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6416-4C80-4D78-810F-7A36684F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2B04-3C99-4025-B19B-5E3340AB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8895-6CC8-46D0-B4C1-E2E17E72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0D7B-7CC6-4B41-9EAE-D1D303C7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F586-E831-4DEA-A374-CFC68300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4F3B-C441-42F8-85EC-CC8BCB43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4065-CA01-45C5-8D5D-001B7550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B855-23DC-4312-B6B0-228CA5AA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D794-2691-4D30-8054-C4B16011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ED2-AA7E-4526-AFE1-5AEF901D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010-F03D-45ED-A633-CFF391DB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19C7-FA4D-41EC-BAF6-21EE4B61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7C14-02D2-47A5-9D17-89DF1D4E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368-4D0B-4AEF-B5D8-D9FE3A69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4A01-56B4-4326-B8BF-C1AE1191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26D0-3488-4D43-87F9-8E0ADBF38D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5D83-F6BD-44D1-B6E8-26AA9F2E81A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Symbo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tvdance.com/william-hung/william-hung-american-idol-reject.jpg&amp;imgrefurl=http://www.tvdance.com/william-hung/&amp;h=162&amp;w=158&amp;sz=5&amp;hl=en&amp;start=6&amp;tbnid=Qq_kns9gSFciBM:&amp;tbnh=98&amp;tbnw=96&amp;prev=/images%3Fq%3DAmerican%2Bidol%26svnum%3D10%26hl%3Den%26lr%3D%26rls%3DGWYE,GWYE:2006-32,GWYE:en%26sa%3DN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ligion" TargetMode="External"/><Relationship Id="rId2" Type="http://schemas.openxmlformats.org/officeDocument/2006/relationships/hyperlink" Target="http://en.wikipedia.org/wiki/Rituals" TargetMode="External"/><Relationship Id="rId3" Type="http://schemas.openxmlformats.org/officeDocument/2006/relationships/hyperlink" Target="http://images.google.com/imgres?imgurl=http://waste2glass.com/images/right_side_picts/worship.jpg&amp;imgrefurl=http://waste2glass.com/worship.html&amp;h=202&amp;w=274&amp;sz=11&amp;hl=en&amp;start=1&amp;tbnid=GoNhRXGRKlojDM:&amp;tbnh=83&amp;tbnw=113&amp;prev=/images%3Fq%3Dworship%26svnum%3D10%26hl%3Den%26lr%3D%26rls%3DGWYE,GWYE:2006-32,GWYE:en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fashion-411.com/Trends/TrendsS06/JillStuartDress.jpg&amp;imgrefurl=http://www.fashion-411.com/&amp;h=480&amp;w=320&amp;sz=43&amp;hl=en&amp;start=10&amp;tbnid=zeTHEfacg8V8rM:&amp;tbnh=129&amp;tbnw=86&amp;prev=/images%3Fq%3Dfashion%26svnum%3D10%26hl%3Den%26lr%3D%26rls%3DGWYE,GWYE:2006-32,GWYE:en%26sa%3D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mdlsoft.co.uk/PrimaryPics1/hello.jpg&amp;imgrefurl=http://www.mdlsoft.co.uk/PrimaryPics.htm&amp;h=198&amp;w=213&amp;sz=4&amp;hl=en&amp;start=9&amp;tbnid=mgDjUhRF8lycSM:&amp;tbnh=99&amp;tbnw=106&amp;prev=/images%3Fq%3Dhello%26svnum%3D10%26hl%3Den%26lr%3D%26rls%3DGWYE,GWYE:2006-32,GWYE:en%26sa%3D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lue_%28personal_and_cultural%29" TargetMode="External"/><Relationship Id="rId2" Type="http://schemas.openxmlformats.org/officeDocument/2006/relationships/hyperlink" Target="http://en.wikipedia.org/wiki/Norm_%28sociology%29" TargetMode="External"/><Relationship Id="rId3" Type="http://schemas.openxmlformats.org/officeDocument/2006/relationships/hyperlink" Target="http://en.wikipedia.org/wiki/Institutions" TargetMode="External"/><Relationship Id="rId4" Type="http://schemas.openxmlformats.org/officeDocument/2006/relationships/hyperlink" Target="http://en.wikipedia.org/wiki/Artifact_%28archaeology%29" TargetMode="External"/><Relationship Id="rId5" Type="http://schemas.openxmlformats.org/officeDocument/2006/relationships/hyperlink" Target="http://images.google.com/imgres?imgurl=http://www3.cancer.gov/rrp/cdrp/images/shaking-hands.jpg&amp;imgrefurl=http://www3.cancer.gov/rrp/cdrp/&amp;h=253&amp;w=250&amp;sz=22&amp;tbnid=29cOG1RZXHPe5M:&amp;tbnh=106&amp;tbnw=104&amp;prev=/images%3Fq%3Dshaking%2Bhands&amp;start=3&amp;sa=X&amp;oi=images&amp;ct=image&amp;cd=3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ibrary.thinkquest.org/J003358F/money_tree5.jpg&amp;imgrefurl=http://library.thinkquest.org/J003358F/trivia.html&amp;h=1762&amp;w=1949&amp;sz=1139&amp;hl=en&amp;start=8&amp;tbnid=kFA6lC91uco_eM:&amp;tbnh=136&amp;tbnw=150&amp;prev=/images%3Fq%3Dmoney%26svnum%3D10%26hl%3Den%26lr%3D%26rls%3DGWYE,GWYE:2006-32,GWYE:en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rapides.k12.la.us/VI/School%2520House.jpg&amp;imgrefurl=http://www.rapides.k12.la.us/VI/mspublisher.htm&amp;h=1119&amp;w=779&amp;sz=215&amp;hl=en&amp;start=5&amp;tbnid=CIMW4mm9Zm0SsM:&amp;tbnh=150&amp;tbnw=104&amp;prev=/images%3Fq%3Dschool%2Bhouse%26svnum%3D10%26hl%3Den%26lr%3D%26rls%3DGWYE,GWYE:2006-32,GWYE:e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www.cr.nps.gov/history/online_books/nace/images/fig5.jpg&amp;imgrefurl=http://www.cr.nps.gov/history/online_books/nace/adhi2a.htm&amp;h=341&amp;w=450&amp;sz=20&amp;hl=en&amp;start=3&amp;tbnid=S6nTmQs2Od-p2M:&amp;tbnh=96&amp;tbnw=127&amp;prev=/images%3Fq%3DLincoln%2Bmemorial%26svnum%3D10%26hl%3Den%26lr%3D%26rls%3DGWYE,GWYE:2006-32,GWYE:en%26sa%3D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dwarereport.com/mt/archives/ipods.jpg&amp;imgrefurl=http://www.adwarereport.com/mt/archives/cat_news.html&amp;h=227&amp;w=406&amp;sz=24&amp;hl=en&amp;start=1&amp;tbnid=jFg3e8eru5LEGM:&amp;tbnh=69&amp;tbnw=124&amp;prev=/images%3Fq%3Dipods%26svnum%3D10%26hl%3Den%26lr%3D%26rls%3DGWYE,GWYE:2006-32,GWYE: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ox.ac.uk/~newc2520/napoleon%2520dynamite.jpg&amp;imgrefurl=http://users.ox.ac.uk/~newc2520/dynamite.htm&amp;h=768&amp;w=1024&amp;sz=141&amp;hl=en&amp;start=7&amp;tbnid=tQ9_Tzn67A4ctM:&amp;tbnh=113&amp;tbnw=150&amp;prev=/images%3Fq%3Dnapoleon%2Bdynamite%26svnum%3D10%26hl%3Den%26lr%3D%26rls%3DGWYE,GWYE:2006-32,GWYE:en%26sa%3DX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ancerblog.com/media/2006/05/mcdonalds.jpg&amp;imgrefurl=http://www.thecancerblog.com/2006/05/10/fast-food-notion-from-a-fast-food-nation-icon/&amp;h=152&amp;w=171&amp;sz=10&amp;hl=en&amp;start=17&amp;tbnid=PUYmKQH8RNhdSM:&amp;tbnh=89&amp;tbnw=100&amp;prev=/images%3Fq%3Dfast%2Bfood%26svnum%3D10%26hl%3Den%26lr%3D%26rls%3DGWYE,GWYE:2006-32,GWYE: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daphnes-restaurant.co.uk/support/6/images/conservatory1.jpg&amp;imgrefurl=http://www.daphnes-restaurant.co.uk/index.asp%3Farea%3D6&amp;h=280&amp;w=431&amp;sz=30&amp;hl=en&amp;start=16&amp;tbnid=yxfv-nd__iSutM:&amp;tbnh=82&amp;tbnw=126&amp;prev=/images%3Fq%3Drestaurant%26svnum%3D10%26hl%3Den%26lr%3D%26rls%3DGWYE,GWYE:2006-32,GWYE:en%26sa%3DX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lleytherepublican.com/uploaded_images/america-790957.jpg&amp;imgrefurl=http://shelleytherepublican.com/&amp;h=538&amp;w=800&amp;sz=56&amp;hl=en&amp;start=7&amp;tbnid=G2KoXZKrs8KRVM:&amp;tbnh=96&amp;tbnw=143&amp;prev=/images%3Fq%3DAmerica%2B%26svnum%3D10%26hl%3Den%26lr%3D%26rls%3DGWYE,GWYE:2006-32,GWYE:en%26sa%3D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calendars.com/images/014/1433/200500001001_hs.jpg&amp;imgrefurl=http://www.calendars2004.com/america/&amp;h=144&amp;w=145&amp;sz=6&amp;hl=en&amp;start=9&amp;tbnid=-SG89jd9s7nCEM:&amp;tbnh=94&amp;tbnw=95&amp;prev=/images%3Fq%3DAmerica%2Bmonuments%26svnum%3D10%26hl%3Den%26lr%3D%26rls%3DGWYE,GWYE:2006-32,GWYE:en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rom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lo, -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its root meaning "to cultivate“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symbolic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farming"/>
          <p:cNvPicPr/>
          <p:nvPr/>
        </p:nvPicPr>
        <p:blipFill>
          <a:blip r:embed="rId3"/>
          <a:stretch/>
        </p:blipFill>
        <p:spPr>
          <a:xfrm>
            <a:off x="914400" y="3733920"/>
            <a:ext cx="2004840" cy="28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illiam-hung-american-idol-rejec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2389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-  has been called "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n entire society." As such, it includes codes of manners, dress, language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reli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ritu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rms of behaviors and systems of b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wor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343400"/>
            <a:ext cx="3047760" cy="22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illStuartDre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038480"/>
            <a:ext cx="177804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ll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152280"/>
            <a:ext cx="10098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instit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Artifact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http://www3.cancer.gov/rrp/cdrp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990720" cy="100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ney_tree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3048120"/>
            <a:ext cx="14284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chool%2520Hous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72428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ig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5638680"/>
            <a:ext cx="1209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ip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91120"/>
            <a:ext cx="308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apoleon%2520dynam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419720"/>
            <a:ext cx="295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mcdon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055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nservatory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800600"/>
            <a:ext cx="3105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merica-7909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95288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00500001001_h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952880"/>
            <a:ext cx="1523880" cy="150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608"/>
          <p:cNvPicPr/>
          <p:nvPr/>
        </p:nvPicPr>
        <p:blipFill>
          <a:blip r:embed="rId5"/>
          <a:stretch/>
        </p:blipFill>
        <p:spPr>
          <a:xfrm>
            <a:off x="4343400" y="4648320"/>
            <a:ext cx="147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cul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4:34:37Z</dcterms:created>
  <dc:creator>Jason lundblad</dc:creator>
  <dc:description/>
  <dc:language>en-US</dc:language>
  <cp:lastModifiedBy>RomaK</cp:lastModifiedBy>
  <dcterms:modified xsi:type="dcterms:W3CDTF">2015-09-04T09:35:42Z</dcterms:modified>
  <cp:revision>8</cp:revision>
  <dc:subject/>
  <dc:title>What is culture? Standard 10.1</dc:title>
</cp:coreProperties>
</file>